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88827"/>
        <c:axId val="89073418"/>
      </c:barChart>
      <c:catAx>
        <c:axId val="77188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73418"/>
        <c:crosses val="autoZero"/>
        <c:auto val="1"/>
        <c:lblAlgn val="ctr"/>
        <c:lblOffset val="100"/>
        <c:noMultiLvlLbl val="0"/>
      </c:catAx>
      <c:valAx>
        <c:axId val="89073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88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6EB1-2EC0-4032-B3D6-FBFC97E7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346-9DE6-40D4-8791-B8A6DFA7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BB76-433B-4F6E-A509-EE656694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AEA-6DD1-453D-B741-C8A7E086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F52-45D4-44C2-8BD2-B66025AF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E32-F4E7-4E6C-9765-1496E10C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7C8-E2D1-422E-BE54-821A8D81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2FCE-670D-4678-9164-5683DA1C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645-5DCA-4949-B4C2-9A1F9C5E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C4F-F270-4F0A-B33A-3BBA61E2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DB9-CDC2-4C84-ADBE-AAB48E6F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C34-4D59-4838-AA4B-1681F06F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A9F27-D675-493E-8EBD-647367A59F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