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8588"/>
        <c:axId val="80368814"/>
      </c:barChart>
      <c:catAx>
        <c:axId val="3788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8814"/>
        <c:crosses val="autoZero"/>
        <c:auto val="1"/>
        <c:lblAlgn val="ctr"/>
        <c:lblOffset val="100"/>
        <c:noMultiLvlLbl val="0"/>
      </c:catAx>
      <c:valAx>
        <c:axId val="80368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A87-E73A-4FE3-880B-FE3BD08B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D0F-AC67-47E6-8875-ED7EDE43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146-46D3-415C-A10B-C9961ACF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41F-300F-4987-BEFA-D214B755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A23-7E62-4727-A114-6788F0F9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173-C3B1-47CA-A5BA-E07AAA11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256-C055-42AD-805C-ECECE933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A42-72B7-4914-A0B1-7EFAD02F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765-439C-4849-9F77-3B9B8ED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4F7-4716-4CF5-9F01-E14FE32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0E9-83B3-4063-8527-4DF05A8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F43-1FBB-4DBE-8809-A179DCC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DB310-B3B8-485D-8F05-218A5C03EC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