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568448"/>
        <c:axId val="28577510"/>
      </c:barChart>
      <c:catAx>
        <c:axId val="975684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77510"/>
        <c:crosses val="autoZero"/>
        <c:auto val="1"/>
        <c:lblAlgn val="ctr"/>
        <c:lblOffset val="100"/>
        <c:noMultiLvlLbl val="0"/>
      </c:catAx>
      <c:valAx>
        <c:axId val="285775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5684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C5CE-ADF6-460D-AB85-3A9A1DDA1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2453-C253-4405-A2A5-9D53BE91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B94C-756C-45D7-B80C-834010F46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2225-80A3-4EC5-8902-713A9C049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8945-55DE-4554-BCF1-F300DC88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8EB6-81CE-4666-A4C4-AAB375DA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DC2D-9E74-4AE2-8D70-5A4DF18B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F2EB-05F0-4665-BE5B-DC380A64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198F-2CD7-42E3-861A-F598AC68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AADA-3425-472E-BD41-1A01D5E0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AAB0-8E2E-4451-BCAB-EDAD0115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FDD9-DAFE-47B8-87DF-074EFAA1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FA18C-E48B-479F-A4FE-23749BFD5B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