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54932"/>
        <c:axId val="77573723"/>
      </c:barChart>
      <c:catAx>
        <c:axId val="30454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73723"/>
        <c:crosses val="autoZero"/>
        <c:auto val="1"/>
        <c:lblAlgn val="ctr"/>
        <c:lblOffset val="100"/>
        <c:noMultiLvlLbl val="0"/>
      </c:catAx>
      <c:valAx>
        <c:axId val="77573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54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FFA-1E85-453D-B721-D51DCEBC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94E-EC31-4137-9A95-08502200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30A-CEF3-4894-87CB-F0334F49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172-1C25-402D-BCDD-D2B6A6E9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B04-8519-4D9E-90BD-B2C9E195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B95-C438-42D4-86E6-810D30B0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8EC-494F-454A-87B5-C82A26E6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DFD-0E9C-4D08-8FB9-9F9DA4AC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3EB-0E9E-4771-8E6A-472375C3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557-77FA-4E9A-961E-9495B52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A14-AA88-4624-A3F8-03BED5CD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757-390D-433A-B285-31B37551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C454F-F4E0-4F72-ABAE-A008A53D47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