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70372"/>
        <c:axId val="71175375"/>
      </c:barChart>
      <c:catAx>
        <c:axId val="73670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75375"/>
        <c:crosses val="autoZero"/>
        <c:auto val="1"/>
        <c:lblAlgn val="ctr"/>
        <c:lblOffset val="100"/>
        <c:noMultiLvlLbl val="0"/>
      </c:catAx>
      <c:valAx>
        <c:axId val="71175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70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FFA-71BF-4779-88BB-3AC9E9FA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58B7-23C5-4212-8BF4-F85FDCFE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7C6-C502-4D8E-AC2A-39B19A6F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7F3-4AAF-402A-8E7D-16D1D8B2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B80-AA7F-4544-BDA6-512A58F6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493-47DA-4E55-A57B-6B6267ED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D32-4D94-46EC-9ED9-F42AC9F0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7EC-66FC-447B-A5A6-94A93344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2C9-2F26-4755-9613-3C28665E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F81-1AFE-4900-AC58-6C804921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1F8-CC48-4198-AF2D-D970CC49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260-46D1-437B-8071-8217616E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5C398-B6F1-427B-9DEB-5485231370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