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64294"/>
        <c:axId val="46990364"/>
      </c:barChart>
      <c:catAx>
        <c:axId val="27642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90364"/>
        <c:crosses val="autoZero"/>
        <c:auto val="1"/>
        <c:lblAlgn val="ctr"/>
        <c:lblOffset val="100"/>
        <c:noMultiLvlLbl val="0"/>
      </c:catAx>
      <c:valAx>
        <c:axId val="469903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42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6639-9766-4158-8A28-EBC9EAAD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E391-3A74-4BC9-AB13-9AA5BC5B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B07E-9161-49DD-8C9E-6E5091455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4B95-CEE2-4BA9-9EC4-F87CAC39F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A8FA-E064-483D-A9B0-E0C94654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7D7E-0190-46D4-B0E3-668A277B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1565-6818-41CF-96A2-09715911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CB3B-4FC3-473D-8849-C6D30D29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6F63-0B6A-430D-87A0-6331C565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8E1B-1AEF-44AC-A9B9-F93F1F36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5CF9-218E-473C-91BB-6AE44CE3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BCF6-DB64-4443-A8E5-BCAEC4DD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4242D-1630-480E-B3CF-C040372D27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