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04193"/>
        <c:axId val="72865781"/>
      </c:barChart>
      <c:catAx>
        <c:axId val="33404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65781"/>
        <c:crosses val="autoZero"/>
        <c:auto val="1"/>
        <c:lblAlgn val="ctr"/>
        <c:lblOffset val="100"/>
        <c:noMultiLvlLbl val="0"/>
      </c:catAx>
      <c:valAx>
        <c:axId val="72865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04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4DF-6E22-470B-A8F2-67024F46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127-4AB9-4B1C-801D-0D2D115A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BDB-1539-4C92-A6EE-A00EB940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511-63A8-4904-8EC6-DBC793F8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5C4-A1E4-4FBB-A7FC-02B28F6D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E69-1AAC-4DC0-9AC1-A5F07B20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81F-3687-41A9-BEB8-DA16BCC2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F23-0582-42CF-8009-F98AA1A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561-6A22-4914-BFAF-C469429B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4D1-67C8-4555-979B-C548A27F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DAD-1DE7-46F3-B3DB-A543BC0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BC4-26B9-4E24-95ED-BEBF3A99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9C11F-359B-420E-8BC7-5A28E65046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