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96941"/>
        <c:axId val="9275246"/>
      </c:barChart>
      <c:catAx>
        <c:axId val="85196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5246"/>
        <c:crosses val="autoZero"/>
        <c:auto val="1"/>
        <c:lblAlgn val="ctr"/>
        <c:lblOffset val="100"/>
        <c:noMultiLvlLbl val="0"/>
      </c:catAx>
      <c:valAx>
        <c:axId val="9275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6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601-AD41-4D2C-86B1-6A9A64A6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ECB-92CB-424B-AA76-8BA4E5F2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15F-A7D0-46B2-BFE9-0C554EA2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5DC-E419-4CE7-8C13-97BE6D96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E73-B778-4F9E-B069-D8FFA92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7A4-A50A-4E50-AC99-D53A373F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708-777C-4382-B1BA-972C0FB5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C5E-2AC3-4B8A-8272-76F5C7BB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9C6-4001-47DA-A03B-F8BD5C19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928-45DF-4044-80D4-8C9D6CB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D0B-583E-49F1-A423-BFBAEAD6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366-E1C9-4A3E-AA35-4F38C3C3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62B1F-10B1-42B7-A811-C8BFE132AB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